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F7C-9955-421C-8944-D42A81B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748-E58A-4645-810B-A74BF493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B77-BD28-45D4-B50D-6E1E9A14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B64-2CDB-4FD9-A5BC-9A9F7A5D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B01A-4E69-48BE-A7B1-70CC5FD8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8B8-3838-4948-A6B4-C731DE6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7526-53DC-4BA5-9C9A-B72C7A63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DC8-028B-4CD0-A069-90F99E5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B8C-B99D-4C06-B0DB-260B01E2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DB4F-AE1E-43EA-9187-F15992B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D66-585E-4B14-B626-EA67594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23E-9800-49D4-ABB9-F4115431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74B-9BBF-4D36-8562-0121D670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E3C3-F650-4D55-9797-4BED964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DEE3-747E-465A-98DE-A5B9B56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90F-0956-4384-8624-D34D34C2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BE3-709B-4ED0-B8CF-1EB3AB37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0EA-F7E6-4B73-A01C-FE3EA02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F78-5710-4A3F-A39D-BFA03EB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87B-D6C1-4428-AE51-6F855BB1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B8B-D8B2-4D94-B98A-3317CF9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138-D69A-4BB2-9E2C-38AEE16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48E-5C88-443D-8B55-C4CC858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82C-2193-423D-A6B6-38B6B60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E1D-7EBC-4969-BB9E-A8C873A4C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ED08-5CE5-4BA7-AF65-F1149D300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лужебные части реч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ект выполнил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«а» класса Бережной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равочник школьника. Русски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ред. В.Славкина – М., 19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exa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8508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асти речи делятся 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Самостоятельные:</a:t>
            </a:r>
            <a:r>
              <a:rPr b="0" lang="en-US" sz="34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Служебные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существительное                пред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прилагательное                   сою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мя числительное                      частиц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ичаст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деепричаст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естоим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ужебные части речи – это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лова, не имеющие номинативного значения (т.е. они не называют предметы, их признаки, процессы и состоя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лова, служащие для выражения отношений между понятиями, которые названы знаменательными словами, и употребляющиеся только в соединении с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лужебных частей реч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се служебные части речи являются неизменяемы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как у них отсутствуют какие-либо собственно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морфологические характерист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как он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членимы на морфем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ужебные части, как правило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е имеют самостоятельного уда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фонетически примыкают к  знаменательным частям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ужебные части речи не являются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ленами предло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используются как формально-грамматические средства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ужебными частями речи являют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Предл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Сою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Час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тличие служебных частей речи от самостоятельны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Служебные части речи не имеют лексического знач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Не бывают членами предло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В предложении употребляются толь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самостоятельными частями ре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Не изменятся ( т.е не имеют никаких грамматических категор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5:03Z</dcterms:created>
  <dc:creator>SamLab.ws</dc:creator>
  <dc:description/>
  <dc:language>en-US</dc:language>
  <cp:lastModifiedBy>SamLab.ws</cp:lastModifiedBy>
  <dcterms:modified xsi:type="dcterms:W3CDTF">2010-04-21T10:16:30Z</dcterms:modified>
  <cp:revision>3</cp:revision>
  <dc:subject/>
  <dc:title>Служебные части речи.</dc:title>
</cp:coreProperties>
</file>